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169920"/>
            <a:ext cx="1046484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91480"/>
            <a:ext cx="1046484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187812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91480"/>
            <a:ext cx="5106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187812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91480"/>
            <a:ext cx="3369600" cy="375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454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26720"/>
            <a:ext cx="10464840" cy="497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774880"/>
            <a:ext cx="5105160" cy="60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57888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9939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3993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33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2777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2777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2777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774880"/>
            <a:ext cx="4127760" cy="60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51804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956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5208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4088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3796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3796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37960" indent="-2761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03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189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664280" indent="-38736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1726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692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692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692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1878120"/>
            <a:ext cx="10464840" cy="787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056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3366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870200" indent="-4352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4415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0258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0258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0258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40280"/>
            <a:ext cx="6032520" cy="48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-360"/>
            <a:ext cx="6032520" cy="48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169920"/>
            <a:ext cx="10464840" cy="26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774880"/>
            <a:ext cx="5105160" cy="60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57888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9939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3993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33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2777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2777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27772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5880"/>
            <a:ext cx="104648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30824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84140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41308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99736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99736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997360" indent="-40644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126720"/>
            <a:ext cx="10464840" cy="440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</a:rPr>
              <a:t>Lição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615760"/>
            <a:ext cx="10464840" cy="452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lguma pergunta?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...obrigada e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boa noite!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96920"/>
            <a:ext cx="10464840" cy="25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Que dia é hoje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"/>
          <p:cNvSpPr/>
          <p:nvPr/>
        </p:nvSpPr>
        <p:spPr>
          <a:xfrm>
            <a:off x="1588680" y="1873080"/>
            <a:ext cx="982296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Hoje é _______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Correção exercícios das unidades 6 e 8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175520" y="3581280"/>
            <a:ext cx="2286000" cy="3086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3225960" y="3581280"/>
            <a:ext cx="2286000" cy="3086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568760" y="438120"/>
            <a:ext cx="3861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  <a:ea typeface="Chalkboard"/>
              </a:rPr>
              <a:t>HORAS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são?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fbbfe"/>
                </a:solidFill>
                <a:latin typeface="Chalkboard"/>
                <a:ea typeface="Chalkboard"/>
              </a:rPr>
              <a:t>São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6000" y="1986120"/>
            <a:ext cx="6912000" cy="57783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28600" y="2095560"/>
            <a:ext cx="6883560" cy="64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"/>
          <p:cNvSpPr/>
          <p:nvPr/>
        </p:nvSpPr>
        <p:spPr>
          <a:xfrm>
            <a:off x="1161360" y="2236320"/>
            <a:ext cx="44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Reunião de Planejamento 2014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"/>
          <p:cNvSpPr/>
          <p:nvPr/>
        </p:nvSpPr>
        <p:spPr>
          <a:xfrm>
            <a:off x="7450200" y="3460680"/>
            <a:ext cx="4762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O Pedro tem uma reunião marcada para `as quatro horas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Ele chega na reunião às cinco horas e dez minutos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gerente de RH chega às cinco e meia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diretor chega às cinco e quarenta e cinco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reunião inicia às seis e quinze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reunião termina às ___________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4978440"/>
            <a:ext cx="6883560" cy="647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7175520"/>
            <a:ext cx="6883560" cy="546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"/>
          <p:cNvSpPr/>
          <p:nvPr/>
        </p:nvSpPr>
        <p:spPr>
          <a:xfrm>
            <a:off x="1814400" y="7721640"/>
            <a:ext cx="87631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a reunião começa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a reunião acaba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Quanto tempo dura essa reunião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"/>
          <p:cNvSpPr/>
          <p:nvPr/>
        </p:nvSpPr>
        <p:spPr>
          <a:xfrm>
            <a:off x="5051880" y="1045080"/>
            <a:ext cx="1777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HORA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"/>
          <p:cNvSpPr/>
          <p:nvPr/>
        </p:nvSpPr>
        <p:spPr>
          <a:xfrm>
            <a:off x="4198680" y="2929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"/>
          <p:cNvSpPr/>
          <p:nvPr/>
        </p:nvSpPr>
        <p:spPr>
          <a:xfrm>
            <a:off x="1740960" y="2929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1739880" y="68922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6438960" y="2929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/>
          <p:nvPr/>
        </p:nvSpPr>
        <p:spPr>
          <a:xfrm>
            <a:off x="6769080" y="6777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4381560" y="6777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40644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otina diária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"/>
          <p:cNvSpPr/>
          <p:nvPr/>
        </p:nvSpPr>
        <p:spPr>
          <a:xfrm>
            <a:off x="798480" y="1486080"/>
            <a:ext cx="833112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7:00h -  Eu acordo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7:30h - Eu tomo café da manhã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8:00h - Começo a trabalha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9:00h - Eu tomo café com o meu filho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10:00h - Respondo e-mail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11:00h - Vou ao banco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ddfd"/>
                </a:solidFill>
                <a:latin typeface="Chalkboard Bold"/>
                <a:ea typeface="Chalkboard Bold"/>
              </a:rPr>
              <a:t>Responda: Como é a sua rotina diári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acord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vai para o trabalho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chega ao trabalho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almoç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para de trabalhar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chega em cas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vai para a academi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você tem reuniões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Que horas é o happy hour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609120"/>
            <a:ext cx="10464840" cy="910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77fe"/>
                </a:solidFill>
                <a:latin typeface="Chalkboard Bold"/>
                <a:ea typeface="Chalkboard Bold"/>
              </a:rPr>
              <a:t>O que você faz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Usa-se para falar de hábito, posição no trabalho, ações rotineira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a77fe"/>
                </a:solidFill>
                <a:latin typeface="Chalkboard Bold"/>
                <a:ea typeface="Chalkboard Bold"/>
              </a:rPr>
              <a:t>O </a:t>
            </a:r>
            <a:r>
              <a:rPr b="0" lang="en-US" sz="2000" spc="-1" strike="noStrike">
                <a:solidFill>
                  <a:srgbClr val="da77fe"/>
                </a:solidFill>
                <a:latin typeface="Chalkboard Bold"/>
                <a:ea typeface="ヒラギノ明朝 ProN W6"/>
              </a:rPr>
              <a:t>	</a:t>
            </a:r>
            <a:r>
              <a:rPr b="0" lang="en-US" sz="2000" spc="-1" strike="noStrike">
                <a:solidFill>
                  <a:srgbClr val="da77fe"/>
                </a:solidFill>
                <a:latin typeface="Chalkboard Bold"/>
                <a:ea typeface="Chalkboard Bold"/>
              </a:rPr>
              <a:t>que você está fazendo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Usa-se para falar de ações realizadas contínuas no present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Exempl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Eu ensino português. (trabalho, ação diária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Eu estou ensinando português. (ação sendo realizada agora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Presente Contínuo ou Gerúndi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Verbo </a:t>
            </a:r>
            <a:r>
              <a:rPr b="0" lang="en-US" sz="2000" spc="-1" strike="noStrike">
                <a:solidFill>
                  <a:srgbClr val="cfbbfe"/>
                </a:solidFill>
                <a:latin typeface="Chalkboard Bold"/>
                <a:ea typeface="Chalkboard Bold"/>
              </a:rPr>
              <a:t>ESTAR + V. INFINITIVO + ND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ENSINAR (V. INFINITIVO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(ELE) ENSINA (3 PESSOA DO PRESENTE DO INDICATIVO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ENSINA</a:t>
            </a:r>
            <a:r>
              <a:rPr b="0" lang="en-US" sz="2000" spc="-1" strike="noStrike">
                <a:solidFill>
                  <a:srgbClr val="fe4940"/>
                </a:solidFill>
                <a:latin typeface="Chalkboard Bold"/>
                <a:ea typeface="Chalkboard Bold"/>
              </a:rPr>
              <a:t>NDO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 (GERUNDIO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RABALHAR (V. INFINITIVO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(ELA) TRABALHA (3 PESSOA DO PRESENTE DO INDICATIVO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RABALHA</a:t>
            </a:r>
            <a:r>
              <a:rPr b="0" lang="en-US" sz="2000" spc="-1" strike="noStrike">
                <a:solidFill>
                  <a:srgbClr val="fe4940"/>
                </a:solidFill>
                <a:latin typeface="Chalkboard Bold"/>
                <a:ea typeface="Chalkboard Bold"/>
              </a:rPr>
              <a:t>NDO 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(GERUNDIO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No Gerúndio, o único verbo conjugado é o verbo ESTA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Exemplo: Eu ESTOU trabalhand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Você _______ trabalhand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Nós _________ trabalhand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Eles _________ trabalhand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81252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O que você faz no trabalho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"/>
          <p:cNvSpPr/>
          <p:nvPr/>
        </p:nvSpPr>
        <p:spPr>
          <a:xfrm>
            <a:off x="2944800" y="3790800"/>
            <a:ext cx="6515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halkboard"/>
                <a:ea typeface="Chalkboard"/>
              </a:rPr>
              <a:t>Brasil Profissões - http://www.brasilprofissoes.com.br/profissoes/p/recepcionista#.UkHNjpV3f0o</a:t>
            </a: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08040" y="2832120"/>
            <a:ext cx="951228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Sentir orgulho de pertencer - to be proud of belonging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Do campo à mesa - from the field to our tabl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Empreendedora - enterpreneurial partnership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Presença no cenário nacional - national presenc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Indústria - factory/indust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Lançamento - launch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Comercialização - comercializa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Usina - sugar cane mill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Chalkboard"/>
              </a:rPr>
              <a:t>Translation web site: www.linguee.co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>
            <a:off x="482760" y="1346040"/>
            <a:ext cx="104774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Vocabulário: Nossa BungeCrescimento da Bunge (pg. 14/15 Revista Nossa Bunge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49500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eitura: Nossa Bun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rescimento da Bunge (pg. 14/15 Revista Nossa Bunge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espond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514240"/>
            <a:ext cx="10464840" cy="659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m que ano a Bunge chega ao Brasil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Quando foi o lançamento do primeiro óleo vegetal comestível do Brasil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mo se chama o primeiro óleo de soja da empres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Quem assume o comando da companhia em 2010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Quais são as marcas da Bunge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 que a empresa produz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Quantas indústrias a empresa tem no Brasil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nde estão localizadas as indústrias da Bunge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Quanto tempo a Bunge está no rasil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